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F51E-9DB4-4D57-93D4-F8C84ACD9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A71-4454-4E52-B223-2E2DFC0C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3"/>
          <p:cNvSpPr/>
          <p:nvPr/>
        </p:nvSpPr>
        <p:spPr>
          <a:xfrm>
            <a:off x="0" y="6194520"/>
            <a:ext cx="9140760" cy="0"/>
          </a:xfrm>
          <a:prstGeom prst="line">
            <a:avLst/>
          </a:prstGeom>
          <a:ln w="44280">
            <a:solidFill>
              <a:srgbClr val="7f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MERS logo"/>
          <p:cNvPicPr/>
          <p:nvPr/>
        </p:nvPicPr>
        <p:blipFill>
          <a:blip r:embed="rId2"/>
          <a:stretch/>
        </p:blipFill>
        <p:spPr>
          <a:xfrm>
            <a:off x="7493040" y="6256440"/>
            <a:ext cx="159048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1" descr="MERS template TITLE (smaller bar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3"/>
          <p:cNvGrpSpPr/>
          <p:nvPr/>
        </p:nvGrpSpPr>
        <p:grpSpPr>
          <a:xfrm>
            <a:off x="5838840" y="6564240"/>
            <a:ext cx="2962080" cy="174240"/>
            <a:chOff x="5838840" y="6564240"/>
            <a:chExt cx="2962080" cy="174240"/>
          </a:xfrm>
        </p:grpSpPr>
        <p:sp>
          <p:nvSpPr>
            <p:cNvPr id="125" name="AutoShape 32"/>
            <p:cNvSpPr/>
            <p:nvPr/>
          </p:nvSpPr>
          <p:spPr>
            <a:xfrm>
              <a:off x="5839920" y="6565320"/>
              <a:ext cx="2959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5838840" y="6564240"/>
              <a:ext cx="107280" cy="1353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5"/>
            <p:cNvSpPr/>
            <p:nvPr/>
          </p:nvSpPr>
          <p:spPr>
            <a:xfrm>
              <a:off x="5965200" y="6596640"/>
              <a:ext cx="61560" cy="1026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6"/>
            <p:cNvSpPr/>
            <p:nvPr/>
          </p:nvSpPr>
          <p:spPr>
            <a:xfrm>
              <a:off x="6035040" y="6596640"/>
              <a:ext cx="106200" cy="105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7"/>
            <p:cNvSpPr/>
            <p:nvPr/>
          </p:nvSpPr>
          <p:spPr>
            <a:xfrm>
              <a:off x="6154200" y="6596640"/>
              <a:ext cx="95040" cy="105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"/>
            <p:cNvSpPr/>
            <p:nvPr/>
          </p:nvSpPr>
          <p:spPr>
            <a:xfrm>
              <a:off x="6261840" y="6596640"/>
              <a:ext cx="99720" cy="10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>
              <a:off x="6373080" y="6596640"/>
              <a:ext cx="93240" cy="105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>
              <a:off x="6479280" y="6596640"/>
              <a:ext cx="95040" cy="105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>
              <a:off x="6650280" y="6564240"/>
              <a:ext cx="96480" cy="1353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>
              <a:off x="6756840" y="6596640"/>
              <a:ext cx="102600" cy="105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>
              <a:off x="6876000" y="6596640"/>
              <a:ext cx="96480" cy="105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>
              <a:off x="6989760" y="6596640"/>
              <a:ext cx="93240" cy="1026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>
              <a:off x="7101000" y="6596640"/>
              <a:ext cx="93240" cy="105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>
              <a:off x="7215120" y="6671520"/>
              <a:ext cx="28440" cy="60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7"/>
            <p:cNvSpPr/>
            <p:nvPr/>
          </p:nvSpPr>
          <p:spPr>
            <a:xfrm>
              <a:off x="7327440" y="6564240"/>
              <a:ext cx="115560" cy="135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7464240" y="6596640"/>
              <a:ext cx="105840" cy="1058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7578360" y="6571800"/>
              <a:ext cx="56880" cy="1292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7708320" y="6564240"/>
              <a:ext cx="107280" cy="1353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7825680" y="6596640"/>
              <a:ext cx="96480" cy="105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7943040" y="6596640"/>
              <a:ext cx="99720" cy="141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3"/>
            <p:cNvSpPr/>
            <p:nvPr/>
          </p:nvSpPr>
          <p:spPr>
            <a:xfrm>
              <a:off x="8055720" y="6596640"/>
              <a:ext cx="98280" cy="105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4"/>
            <p:cNvSpPr/>
            <p:nvPr/>
          </p:nvSpPr>
          <p:spPr>
            <a:xfrm>
              <a:off x="8173080" y="6596640"/>
              <a:ext cx="58320" cy="102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5"/>
            <p:cNvSpPr/>
            <p:nvPr/>
          </p:nvSpPr>
          <p:spPr>
            <a:xfrm>
              <a:off x="8236440" y="6599880"/>
              <a:ext cx="147240" cy="9936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>
              <a:off x="8391960" y="6596640"/>
              <a:ext cx="106200" cy="105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7"/>
            <p:cNvSpPr/>
            <p:nvPr/>
          </p:nvSpPr>
          <p:spPr>
            <a:xfrm>
              <a:off x="8515440" y="6596640"/>
              <a:ext cx="60120" cy="102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8"/>
            <p:cNvSpPr/>
            <p:nvPr/>
          </p:nvSpPr>
          <p:spPr>
            <a:xfrm>
              <a:off x="8591760" y="6564240"/>
              <a:ext cx="96480" cy="1353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>
              <a:off x="8690040" y="6564240"/>
              <a:ext cx="45720" cy="57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>
              <a:off x="8745840" y="6565320"/>
              <a:ext cx="55080" cy="529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61" descr="MERS LG logo"/>
          <p:cNvPicPr/>
          <p:nvPr/>
        </p:nvPicPr>
        <p:blipFill>
          <a:blip r:embed="rId3"/>
          <a:stretch/>
        </p:blipFill>
        <p:spPr>
          <a:xfrm>
            <a:off x="157320" y="1365120"/>
            <a:ext cx="3476520" cy="100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rs-servicerid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ers@mersinc.org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rsinc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4760" y="3006720"/>
            <a:ext cx="822636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Core Legal Concep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4760" y="4239720"/>
            <a:ext cx="82263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S Law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520" cy="10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ertifying Officer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certifying offic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Resolution Management System (C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Payoffs 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Loan Servicer can provide a payoff fig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letter explaining relationship between MERS, servicer and not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way for title professionals to contact the current servicer is by using MERS® Link or by visiting the MERS® Servicer ID websit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-servicerid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Lien Release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85720"/>
            <a:ext cx="8686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servicer receives payoff, a MERS certify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icer executes lien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en release must be recorded within 45 calendar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tate Specific Require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ado: Lien Release by way of Public Trus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uisiana: Licensed Financial Institutions (not M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York: C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achusetts: Massachusetts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rvice Of Proces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ortgagee or beneficiary of record, what types of documents does MERS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gal pleadings, notices, demand letters, subpoe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MERS receive mail?  Service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.O. box in Flint, Michig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lroom in Ocala, Flor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porate headquarters in Reston, Virgin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ed Ag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rvice of Proces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MERS do with the mail it rece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 scanned and forwarded electronically to the central point of contact at the member servicing the lo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Indemnification 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 Rule 1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graph 9 of Terms &amp; Condi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responsible for retaining counsel for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Law Department works with member and outside coun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should notify MERS promptly regarding questions pertaining to indem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Notification to MER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 Rule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required to notify MERS of lawsuits and threatened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mers@mersinc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sclaimer for use by originating l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ubpoena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receives subpoenas most commonly in foreclosure, divorce, criminal, and bankruptcy procee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MERS Certifying Officer to resp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should confirm that it is responding to the subpoena and producing documents in its ow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respond to subpoena could lead to costly contempt order and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tate Qualification &amp; Licensing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RSCORP, Inc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, CA, FL, IA, IL, MA, MN, NJ, NY, OR, PA, TX, and 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tgage Electronic Registration Systems, In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, AR, FL, IL, KS, MA, NJ, NY, OH, and 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orporate Structur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CORP, Inc: Operating company that owns the MERS® System; owned by MBA, Fannie, Freddie, plus 25 leading mortgage industry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 Electronic Registration Systems, Inc. (“MERS”): Bankruptcy-remote subsidiary of MERSCORP, Inc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e purpose: to serve as mortgagee in land records for loans registered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4" descr="MPj03988310000[1]"/>
          <p:cNvPicPr/>
          <p:nvPr/>
        </p:nvPicPr>
        <p:blipFill>
          <a:blip r:embed="rId1"/>
          <a:stretch/>
        </p:blipFill>
        <p:spPr>
          <a:xfrm>
            <a:off x="3124080" y="838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Q &amp; A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Governing Docu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5840" y="1485720"/>
            <a:ext cx="88581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mber enters into a Membership Agre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ment consists of application that incorporates terms and conditions, membership rules and Procedures M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downloaded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inc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agrees that MERS shall serve as mortgagee and nominee in land records in exchange for member registering mortgage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oesn’t serve as mortgagee for iRegistration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What is MERS?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registry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registry operated by MERSCORP, Inc. for tracking servicing rights and beneficial ownership interests in mortgage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tgagee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is mortgagee in a nominee capacity for the beneficial owner of a mortgage loan in the land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Basic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ation vs. Recording: The MERS® System is not a system of legal record nor a replacement for the public land records.  Mortgages must be recorded in the public land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 vs. Transfer: The MERS® System is a tracking system.  No interests are transferred on the system; only tra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Two Ways for MERS to Become Mortgage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as Original Mortgagee (“MOM”): Deeds of Trust or Mortgages with MERS as Original Beneficiary or Mortgagee using standard language approved by Fannie Mae, Freddie Mac, FHA and 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to MERS: Assignment to MERS for existing Non-MOM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: iRegistration vs. MOM/Non-MOM Registration. For MOM/Non-MOM registrations, MERS is identified as mortgagee on mortgage; for iRegistrations, MERS is not a party to the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as Original Mortgage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Securit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 Section: “MERS” is defined as Mortgagee/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ing Clause: Borrower mortgages, grants and conveys the Property to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losure Section: Borrower agrees that MERS holds legal title and acknowledges that MERS has authority to exercise rights of mortgagee/beneficiary, including fore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Issuing a Title Policy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recommend that MERS be named as insured on title policies when a MOM is us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owner is always an insured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cannot fix problems in chain of title that occurred prior to MERS becoming mortgag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Filing Corrective Docu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e Affida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to correct M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cep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ifornia, New Jersey (file an assign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neous M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laimer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ation on MERS®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22:00Z</dcterms:created>
  <dc:creator>karmelal</dc:creator>
  <dc:description>www.condorcom.com</dc:description>
  <dc:language>en-US</dc:language>
  <cp:lastModifiedBy>O. Max Gardner III</cp:lastModifiedBy>
  <dcterms:modified xsi:type="dcterms:W3CDTF">2010-07-18T22:53:24Z</dcterms:modified>
  <cp:revision>5</cp:revision>
  <dc:subject/>
  <dc:title>Presentation Title Here,  36pt Calibri Bold</dc:title>
</cp:coreProperties>
</file>